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676-B0E7-40D2-BBA9-FB2830EC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549-461F-48AD-8F70-5F849625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3FB-3EEC-4862-825A-5BFA5202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E31-73B9-4E3B-88AE-885AF4CA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E1B-23F4-4991-9958-26E4890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C52-5615-4FBE-8908-54B3B9AC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330-B540-42CE-8FBF-D80FFCF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18D-E850-4A9A-BE67-84954864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0D9-DAB2-40AE-B189-27DEAB2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CE1-D990-49A4-A4DA-323EB1B9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BF6-3C1F-4670-8076-854BBA5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087-5F34-4327-87CE-3D29842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1A7D-BB31-4D26-B6CE-A35193DF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.  El ori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cultura mestiza (= indíge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religión cristiana (católica rom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música religi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I.  Los instrumentos del Fanda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la guitarr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strumentos primi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el violí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la vihu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II.  Los instrumentos del Mariac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la guitar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el violí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la vihu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. el arpa (f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V.  La 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el sombrero gra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hay colores brillantes en la tela 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fabric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neg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vestido tradicional = folkló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. hombres – pantalones apretados / chaquetas co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. mujeres – faldas 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skirt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largas / chaquetas co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51544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Vihuela Mexicana.jpg"/>
          <p:cNvPicPr/>
          <p:nvPr/>
        </p:nvPicPr>
        <p:blipFill>
          <a:blip r:embed="rId2"/>
          <a:stretch/>
        </p:blipFill>
        <p:spPr>
          <a:xfrm>
            <a:off x="6553080" y="1371600"/>
            <a:ext cx="1809720" cy="4133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5562720" y="5867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huela mexicana – cinco cuerdas / parte de atrás redo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upload.wikimedia.org/wikipedia/commons/4/44/Gitarron.jpg"/>
          <p:cNvPicPr/>
          <p:nvPr/>
        </p:nvPicPr>
        <p:blipFill>
          <a:blip r:embed="rId3"/>
          <a:stretch/>
        </p:blipFill>
        <p:spPr>
          <a:xfrm>
            <a:off x="914400" y="1371600"/>
            <a:ext cx="190512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762120" y="5791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tarrón mexicana – grande / ancha / de mango co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276720" y="1523880"/>
            <a:ext cx="27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tar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ol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mpet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laut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rp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cordeó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378000" y="122400"/>
            <a:ext cx="8315280" cy="143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mariachi4u.com/hwm/images/Laurapink.jpg"/>
          <p:cNvPicPr/>
          <p:nvPr/>
        </p:nvPicPr>
        <p:blipFill>
          <a:blip r:embed="rId2"/>
          <a:stretch/>
        </p:blipFill>
        <p:spPr>
          <a:xfrm>
            <a:off x="5791320" y="1981080"/>
            <a:ext cx="2438280" cy="367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farm4.static.flickr.com/3058/2859335688_852ed82ac6.jpg"/>
          <p:cNvPicPr/>
          <p:nvPr/>
        </p:nvPicPr>
        <p:blipFill>
          <a:blip r:embed="rId3"/>
          <a:stretch/>
        </p:blipFill>
        <p:spPr>
          <a:xfrm>
            <a:off x="533520" y="19810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20:39:05Z</dcterms:created>
  <dc:creator>Joann</dc:creator>
  <dc:description/>
  <dc:language>en-US</dc:language>
  <cp:lastModifiedBy>Joann</cp:lastModifiedBy>
  <dcterms:modified xsi:type="dcterms:W3CDTF">2012-02-23T20:41:17Z</dcterms:modified>
  <cp:revision>1</cp:revision>
  <dc:subject/>
  <dc:title>Slide 1</dc:title>
</cp:coreProperties>
</file>